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5353-0FAF-4E61-9A3C-B38CEBBB3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 addition to the price of the product being the main factor as stated  in the Law of Supply, the price of production inputs also plays a part. The lowest price at which a firm can sell a good without losing money is the amount of money that it costs to produce it. Producing a good or service involves taking inputs and applying a process to them to produce an output. The output is the finished good or service, and inputs are raw materials, labor, utilities, licensing fees, or even other goods. These inputs are also known as factors of production. If the price of inputs goes up, the cost of producing the good increases. And therefore at each price producers need to sell their good for more money. So an increase in the price of inputs leads to a decrease in supply. Similarly, a decrease in the price of inputs leads to an increase in supp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ion of a good involves taking inputs, applying a process to them, and producing an output. Well, production technology is involved in the process part. Increases in the level of production technology can make that process more efficient. For example, imagine that you run a basic T-Shirt screen printing business out of your home. Now lets say you decide to invest in a workshop installed with the latest production technology. With this use of technology, the operation becomes more efficient and you are able increase the supply of T-shirts. If you decide to expand even further, some added technological improvements might be warranted. This further increases your ability to supply t-shirts since it reduces your labor costs. By automating the process, reliance upon labor is lessened and those resources are released for utilization else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doesn't just matter what is currently going on - one's expectations can also affect how much of a product one is willing and able to sell. For example, if your firm produces mp3 players and you hear that Apple will soon introduce a new iPod that has more memory and longer battery life, you (and other producers) may decide to hurry up and sell your players to stores before the new iPod comes out. When people decide to increase production/sales today, they are increasing the current supply for mp3 players because of what they EXPECT to happen in the fu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 more or fewer producers enter the market this has a direct effect on the amount of a product that producers (in general) are willing and able to sell. More competition usually means a reduction in supply, while less competition gives the producer a opportunity to have a bigger market share with a larger supp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uncan Thurly, as Sergent at Arms of the Shady Valley Bungee Association, has been charged with installing and testing the bungee straps for the 12th Annual Bungee Jump Off. As the first one to plunge 500 feet from a bridge, he is admittedly concerned that the appropriate bungee straps are u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tions include: </a:t>
            </a:r>
            <a:endParaRPr b="0" lang="en-US" sz="1200" spc="-1" strike="noStrike">
              <a:solidFill>
                <a:srgbClr val="000000"/>
              </a:solidFill>
              <a:latin typeface="Times New Roman"/>
            </a:endParaRPr>
          </a:p>
          <a:p>
            <a:pPr>
              <a:lnSpc>
                <a:spcPct val="100000"/>
              </a:lnSpc>
              <a:spcBef>
                <a:spcPts val="45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Steel</a:t>
            </a:r>
            <a:r>
              <a:rPr b="0" lang="en-US" sz="1200" spc="-1" strike="noStrike">
                <a:solidFill>
                  <a:srgbClr val="000000"/>
                </a:solidFill>
                <a:latin typeface="verdana"/>
              </a:rPr>
              <a:t>, which has some stretchability, but not a lot. A great deal of force is needed to induce changes in the steel. The jumpers are likely to end up with a sudden, spine-snapping, joint-separating stop.</a:t>
            </a:r>
            <a:br>
              <a:rPr sz="1200"/>
            </a:b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45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Leather</a:t>
            </a:r>
            <a:r>
              <a:rPr b="0" lang="en-US" sz="1200" spc="-1" strike="noStrike">
                <a:solidFill>
                  <a:srgbClr val="000000"/>
                </a:solidFill>
                <a:latin typeface="verdana"/>
              </a:rPr>
              <a:t>, which has more stretchability than steel, but once again, probably not enough.</a:t>
            </a:r>
            <a:br>
              <a:rPr sz="1200"/>
            </a:b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45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Rubber</a:t>
            </a:r>
            <a:r>
              <a:rPr b="0" lang="en-US" sz="1200" spc="-1" strike="noStrike">
                <a:solidFill>
                  <a:srgbClr val="000000"/>
                </a:solidFill>
                <a:latin typeface="verdana"/>
              </a:rPr>
              <a:t>, which is relatively stretchable, would seem to be an ideal candidate. However, Duncan must make sure that the rubber is not too stretchable. If so, then the jumpers are bound to have an unscheduled meeting with a pile of jagged roc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ile this notion of stretchability is extremely important for bungee jumping, it is analogously important to economics and market exchanges. For markets, the force of gravity is replaced by changes in price and the plummeting body is replaced by changes in quant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re is an inverse (negative) relationship between the price of a product and the amount of that product consumers are willing and able to buy. Consumers want to buy more of a product at a low price and less of a product at a high price. This inverse relationship between price and the amount consumers are willing and able to buy is often referred to as The Law of Demand</a:t>
            </a:r>
            <a:r>
              <a:rPr b="1" i="1" lang="en-US" sz="1200" spc="-1" strike="noStrike">
                <a:solidFill>
                  <a:srgbClr val="000000"/>
                </a:solidFill>
                <a:latin typeface="Arial"/>
                <a:ea typeface="Arial"/>
              </a:rPr>
              <a:t>.</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effect that income has on the amount of a product that consumers are willing and able to buy depends on the type of good we're talking about. For most goods, there is a positive (direct) relationship between a consumer's income and the amount of the good that one is willing and able to buy. In other words, for these goods when income rises the demand for the product will increase; when income falls, the demand for the product will decrease. We call these types of goods normal goods.</a:t>
            </a:r>
            <a:br>
              <a:rPr sz="1200"/>
            </a:br>
            <a:r>
              <a:rPr b="1" lang="en-US" sz="1200" spc="-1" strike="noStrike">
                <a:solidFill>
                  <a:srgbClr val="000000"/>
                </a:solidFill>
                <a:latin typeface="Arial"/>
                <a:ea typeface="Arial"/>
              </a:rPr>
              <a:t>However, for some goods the effect of a change in income is the reverse. For example, think about a low-quality (high fat-content) ground beef. You might buy this while you are a student, because it is inexpensive relative to other types of meat. But if your income increases enough, you might decide to stop buying this type of meat and instead buy leaner cuts of ground beef, or even give up ground beef entirely in favor of beef tenderloin. If this were the case (that as your income went up, you were willing to buy less high-fat ground beef), there would be an inverse relationship between your income and your demand for this type of meat. We call this type of good an inferior good. There are two important things to keep in mind about inferior goods. They are not necessarily low-quality goods. The term inferior (as we use it in economics) just means that there is an inverse relationship between one's income and the demand for that good. Also, whether a good is normal or inferior may be different from person to person. A product may be a normal good for you, but an inferior good for another per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 with income, the effect that this has on the amount that one is willing and able to buy depends on the type of good we're talking about. Think about two goods that are typically consumed together. For example, bagels and cream cheese. We call these types of goods compliments. If the price of a bagel goes up, the Law of Demand tells us that we will be willing/able to buy fewer bagels. But if we want fewer bagels, we will also want to use less cream cheese (since we typically use them together). Therefore, an increase in the price of bagels means we want to purchase less cream cheese. We can summarize this by saying that when two goods are complements, there is an inverse relationship between the price of one good and the demand for the other good. </a:t>
            </a:r>
            <a:br>
              <a:rPr sz="1200"/>
            </a:br>
            <a:r>
              <a:rPr b="1" lang="en-US" sz="1200" spc="-1" strike="noStrike">
                <a:solidFill>
                  <a:srgbClr val="000000"/>
                </a:solidFill>
                <a:latin typeface="Arial"/>
                <a:ea typeface="Arial"/>
              </a:rPr>
              <a:t>On the other hand, some goods are considered to be substitutes for one another: you don't consume both of them together, but instead choose to consume one or the other. For example, for some people Coke and Pepsi are substitutes (as with inferior goods, what is a substitute good for one person may not be a substitute for another person). If the price of Coke increases, this may make Pepsi relatively more attractive. The Law of Demand tells us that fewer people will buy Coke; some of these people may decide to switch to Pepsi instead, therefore increasing the amount of Pepsi that people are willing and able to buy. We summarize this by saying that when two goods are substitutes, there is a positive relationship between the price of one good and the demand for the other g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is is a less tangible item that still can have a big impact on demand. There are all kinds of things that can change one's tastes or preferences that cause people to want to buy more or less of a product. For example, if a celebrity endorses a new product, this may increase the demand for a product. On the other hand, if a new health study comes out saying something is bad for your health, this may decrease the demand for the product. Another example is that a person may have a higher demand for an umbrella on a rainy day than on a sunny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doesn't just matter what is currently going on - one's expectations for the future can also affect how much of a product one is willing and able to buy. For example, if you hear that Apple will soon introduce a new iPod that has more memory and longer battery life, you (and other consumers) may decide to wait to buy an iPod until the new product comes out. When people decide to wait, they are decreasing the current demand for iPods because of what they expect to happen in the future. Similarly, if you expect the price of gasoline to go up tomorrow, you may fill up your car with gas now. So your demand for gas today increased because of what you expect to happen tomorrow. This is similar to what happened after Huricane Katrina hit in the fall of 2005. Rumors started that gas stations would run out of gas. As a result, many consumers decided to fill up their cars (and gas cans), leading to long lines and a big increase in the demand for gas. This was all based on the expectation of what would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 more or fewer consumers enter the market this has a direct effect on the amount of a product that consumers (in general) are willing and able to buy. For example, a pizza shop located near a University will have more demand and thus higher sales during the fall and spring semesters. In the summers, when less students are taking classes, the demand for their product will decrease because the number of consumers in the area has significantly decreas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AF392-7517-452F-9812-18F864701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4AB8B-149F-4668-B3C0-62381EFF6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B029C-02B8-41BD-9441-A1BA4FEBE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95058-AA0B-42BF-A8C5-7BE25EFBB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A7D41-BD92-4000-A89A-3F0341278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A21D1-3338-4B0B-AE9A-0E93EB92C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DE3B3-7C11-4901-8200-962841D6D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BBDA9-2A08-40F8-BFFE-D3AA585A5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0284A-D501-4D71-AAEA-B3D7B9919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FEB9D-C0B8-43AB-9F8F-C1A06D2D1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E4CA6-D10A-41A8-AAA1-18D85B325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94125-7D0C-4812-90D7-E08A14864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A210E-96A2-4291-A9B4-9659324FC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F7A7C-7F7A-4196-B3EB-08713C12B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A172F-C7C8-4A40-9ED1-49EBC0629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4C71B-0271-42CF-8084-6D1B730CE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FE94E-C3FB-48F7-85F0-65594C0DA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16B53-AC33-419A-9495-4CF91D4C7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3B31F-A5B9-4260-ACFE-245953E66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B3A90-9FF6-457B-8F2B-B7E8AE68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56A1-5657-46E7-A4D2-96C48E423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B4418-87C9-4F1A-92E2-82D0934F1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1BA6A-486E-4E3C-B0B3-C552FB66F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EFDAA-4DBE-4BD2-AC18-A515AF3A9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5E57-75FB-4588-BE63-83536B0984B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4819-6CF6-45EB-A97E-0E5BC53DCB5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089080"/>
            <a:ext cx="7772400" cy="13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Supply and Demand</a:t>
            </a:r>
            <a:r>
              <a:rPr b="1" lang="en-US" sz="5400" spc="-1" strike="noStrike">
                <a:solidFill>
                  <a:srgbClr val="ffffb7"/>
                </a:solidFill>
                <a:latin typeface="Arial Black"/>
              </a:rPr>
              <a:t>	</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Econom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ea typeface="Times New Roman"/>
              </a:rPr>
              <a:t>Factors That Affect Supply</a:t>
            </a:r>
            <a:endParaRPr b="1" lang="en-US" sz="36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ce of inpu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urrent state of production technolog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ducer’s expectatio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 of producers in the mar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emand</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nge of Prices and Quantities</a:t>
            </a:r>
            <a:endParaRPr b="0" lang="en-US" sz="28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 is termed </a:t>
            </a:r>
            <a:r>
              <a:rPr b="0" lang="en-US" sz="2600" spc="-1" strike="noStrike" u="sng">
                <a:solidFill>
                  <a:srgbClr val="ffffff"/>
                </a:solidFill>
                <a:uFillTx/>
                <a:latin typeface="Arial"/>
              </a:rPr>
              <a:t>Demand Price</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9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aximum price that buyers are willing and able to pay for a given quantity of a good. They would be willing to pay less than this price, but not more</a:t>
            </a:r>
            <a:endParaRPr b="0" lang="en-US" sz="2200" spc="-1" strike="noStrike">
              <a:solidFill>
                <a:srgbClr val="ffffff"/>
              </a:solidFill>
              <a:latin typeface="Arial"/>
            </a:endParaRPr>
          </a:p>
          <a:p>
            <a:pPr lvl="1" marL="743040" indent="-285840">
              <a:lnSpc>
                <a:spcPct val="90000"/>
              </a:lnSpc>
              <a:spcBef>
                <a:spcPts val="6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ntity is termed </a:t>
            </a:r>
            <a:r>
              <a:rPr b="0" lang="en-US" sz="2600" spc="-1" strike="noStrike" u="sng">
                <a:solidFill>
                  <a:srgbClr val="ffffff"/>
                </a:solidFill>
                <a:uFillTx/>
                <a:latin typeface="Arial"/>
              </a:rPr>
              <a:t>Quantity Demanded</a:t>
            </a:r>
            <a:endParaRPr b="0" lang="en-US" sz="2600" spc="-1" strike="noStrike">
              <a:solidFill>
                <a:srgbClr val="ffffff"/>
              </a:solidFill>
              <a:latin typeface="Arial"/>
            </a:endParaRPr>
          </a:p>
          <a:p>
            <a:pPr lvl="2" marL="1143000" indent="-228600">
              <a:lnSpc>
                <a:spcPct val="9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pecific amount of a good that buyers are willing and able to purchase at a given demand price. The quantity demanded is the maximum amount of the good that buyers are willing and able to buy at the given pric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upply</a:t>
            </a:r>
            <a:endParaRPr b="1" lang="en-US" sz="36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otal amount of a product (good or service) available for purchase at any specified price</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Arial"/>
              </a:rPr>
              <a:t>Price</a:t>
            </a:r>
            <a:r>
              <a:rPr b="0" lang="en-US" sz="2000" spc="-1" strike="noStrike">
                <a:solidFill>
                  <a:srgbClr val="ffffff"/>
                </a:solidFill>
                <a:latin typeface="Arial"/>
                <a:ea typeface="Arial"/>
              </a:rPr>
              <a:t>: producers will try to obtain the highest possible price whereas the buyers will try to pay the lowest possible price—both settling at the equilibrium price where supply equals demand</a:t>
            </a:r>
            <a:endParaRPr b="0" lang="en-US" sz="2000" spc="-1" strike="noStrike">
              <a:solidFill>
                <a:srgbClr val="ffffff"/>
              </a:solidFill>
              <a:latin typeface="Arial"/>
            </a:endParaRPr>
          </a:p>
          <a:p>
            <a:pPr lvl="1" marL="743040" indent="-285840">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Arial"/>
              </a:rPr>
              <a:t>Cost of inputs</a:t>
            </a:r>
            <a:r>
              <a:rPr b="0" lang="en-US" sz="2000" spc="-1" strike="noStrike">
                <a:solidFill>
                  <a:srgbClr val="ffffff"/>
                </a:solidFill>
                <a:latin typeface="Arial"/>
                <a:ea typeface="Arial"/>
              </a:rPr>
              <a:t>: lower the input price the higher the profit at a price level and more product will be offered at that price</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Arial"/>
              </a:rPr>
              <a:t>Price of other goods</a:t>
            </a:r>
            <a:r>
              <a:rPr b="0" lang="en-US" sz="2000" spc="-1" strike="noStrike">
                <a:solidFill>
                  <a:srgbClr val="ffffff"/>
                </a:solidFill>
                <a:latin typeface="Arial"/>
                <a:ea typeface="Arial"/>
              </a:rPr>
              <a:t>: lower prices of competing goods will reduce the price and the supplier may switch to switch to more profitable products thus reducing the supp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b7"/>
                </a:solidFill>
                <a:latin typeface="Arial Black"/>
                <a:ea typeface="Times New Roman"/>
              </a:rPr>
              <a:t>Conditions Required for Demand to Exist</a:t>
            </a:r>
            <a:r>
              <a:rPr b="1" lang="en-US" sz="3900" spc="-1" strike="noStrike">
                <a:solidFill>
                  <a:srgbClr val="ffffb7"/>
                </a:solidFill>
                <a:latin typeface="Arial Black"/>
              </a:rPr>
              <a:t> </a:t>
            </a:r>
            <a:endParaRPr b="1" lang="en-US" sz="39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ngnes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ises because the good satisfies a want or need</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one does NOT necessarily want or need every good or service available</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yer must have enough </a:t>
            </a:r>
            <a:r>
              <a:rPr b="0" i="1" lang="en-US" sz="2400" spc="-1" strike="noStrike">
                <a:solidFill>
                  <a:srgbClr val="ffffff"/>
                </a:solidFill>
                <a:latin typeface="Arial"/>
              </a:rPr>
              <a:t>income</a:t>
            </a:r>
            <a:r>
              <a:rPr b="0" lang="en-US" sz="2400" spc="-1" strike="noStrike">
                <a:solidFill>
                  <a:srgbClr val="ffffff"/>
                </a:solidFill>
                <a:latin typeface="Arial"/>
              </a:rPr>
              <a:t> to make a purch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ea typeface="Times New Roman"/>
              </a:rPr>
              <a:t>Law of Supply and Demand</a:t>
            </a:r>
            <a:endParaRPr b="1" lang="en-US" sz="36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relationship between supply and demand determines the price and the quantity produce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 change in either will lead to changes in price and/or amount produced in order to achieve equilibrium in the mark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ly the notion of </a:t>
            </a:r>
            <a:r>
              <a:rPr b="0" i="1" lang="en-US" sz="2800" spc="-1" strike="noStrike">
                <a:solidFill>
                  <a:srgbClr val="ffffff"/>
                </a:solidFill>
                <a:latin typeface="Arial"/>
              </a:rPr>
              <a:t>stretchability</a:t>
            </a:r>
            <a:r>
              <a:rPr b="0" lang="en-US" sz="2800" spc="-1" strike="noStrike">
                <a:solidFill>
                  <a:srgbClr val="ffffff"/>
                </a:solidFill>
                <a:latin typeface="Arial"/>
              </a:rPr>
              <a:t>, that is, how easily a particular variable is to stretch</a:t>
            </a:r>
            <a:endParaRPr b="0" lang="en-US" sz="28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variables are hard to stretch, meaning a great deal of force must be applied to induce change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variables are stretched quite easily, with little force needed to entice changes</a:t>
            </a:r>
            <a:endParaRPr b="0" lang="en-US" sz="24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s if small changes in one variable cause relatively large changes in another variabl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astic relationship between two variables is a very responsive, or stretchable, relationship</a:t>
            </a:r>
            <a:endParaRPr b="0" lang="en-US" sz="2800" spc="-1" strike="noStrike">
              <a:solidFill>
                <a:srgbClr val="ffffff"/>
              </a:solidFill>
              <a:latin typeface="Arial"/>
            </a:endParaRPr>
          </a:p>
        </p:txBody>
      </p:sp>
      <p:sp>
        <p:nvSpPr>
          <p:cNvPr id="116" name=""/>
          <p:cNvSpPr txBox="1"/>
          <p:nvPr/>
        </p:nvSpPr>
        <p:spPr>
          <a:xfrm>
            <a:off x="1371600" y="228600"/>
            <a:ext cx="6629400" cy="1600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Elasticity</a:t>
            </a:r>
            <a:endParaRPr b="0" lang="en-US" sz="24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ea typeface="Times New Roman"/>
              </a:rPr>
              <a:t>Factors That Affect Elasticity</a:t>
            </a:r>
            <a:endParaRPr b="1" lang="en-US" sz="36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ea typeface="Times New Roman"/>
              </a:rPr>
              <a:t>Understanding Elasticity</a:t>
            </a:r>
            <a:r>
              <a:rPr b="1" lang="en-US" sz="3600" spc="-1" strike="noStrike">
                <a:solidFill>
                  <a:srgbClr val="ffffb7"/>
                </a:solidFill>
                <a:latin typeface="Arial Black"/>
              </a:rPr>
              <a:t> </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ncan Thurl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nalogously important to economics and market exchange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arkets, the force of gravity is replaced by changes in price and the plummeting body is replaced by changes in quant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ea typeface="Times New Roman"/>
              </a:rPr>
              <a:t>Factors That Affect Demand</a:t>
            </a:r>
            <a:endParaRPr b="1" lang="en-US" sz="36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ce of the produc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umer’s incom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ce of related goo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tes and preferences of consum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umer’s expectatio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 of consumers in the mar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23:24:11Z</dcterms:created>
  <dc:creator>Owner</dc:creator>
  <dc:description/>
  <dc:language>en-US</dc:language>
  <cp:lastModifiedBy>Computer Services</cp:lastModifiedBy>
  <dcterms:modified xsi:type="dcterms:W3CDTF">2010-01-27T12:42:41Z</dcterms:modified>
  <cp:revision>11</cp:revision>
  <dc:subject/>
  <dc:title>Supply and Demand </dc:title>
</cp:coreProperties>
</file>